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6BB4-4522-49AD-BC03-914DA230A0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7B45-0E16-450D-B610-8C7B895B69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E15D-E736-4018-88EE-365ACB7065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286C-1B05-496A-B215-CEE04D53A8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6E6D-E6C0-4C0E-8D67-07E4E8D2A5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CFCB-B7BD-4920-A8B0-DC70F599B6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EE55-D901-46F1-8B97-254B56B30E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A091-C3EC-42F9-A507-77EA5AD8C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5012-052B-4A06-8487-408EED51C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B2C3-A375-4FA7-9BFE-68FA1281D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556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0384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4728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556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0384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157E-5934-4988-8FA7-8505549D8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8D310-CC2C-49C7-A88C-1643234514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C80FF-3765-4731-B10D-602E10969C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6DCFE-9DC6-4DB9-96F3-681AC23DCA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6AB3-9C49-4C85-B9C6-B1C9FF86CF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90B67-4139-4425-8680-7BB66EBE84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476360" y="54936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8FB3C-515D-459B-AACD-DD8E10E06F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CBFD1-C5E4-4D18-B37F-79C01799E6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DA5D9-DA79-49F4-A66F-1C231D14D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97BD9-E227-4696-B6B9-E1E5D580C3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16EA3-11A7-4977-8300-DF6F53547C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7DF9B-189C-4506-91BF-A351602A96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6558-C71D-4EDB-94D7-610FA3DE68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2556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70384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54728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2556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70384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04179-0287-475F-BD05-36B512D42A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27AF-8D17-443E-9A40-50393DADE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1D2D0-6B35-4CBC-AD76-3E954CBA8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6B4F9-D0AC-4A7E-A336-107B6325B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76360" y="54936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70F8-0043-4ADF-9A32-CE7C278D4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4DC1-28DC-4F43-A371-F5139CAE1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5857-3F93-4062-985C-8A3571C4C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0C03-88EF-42B9-A6E4-3C361E3C1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8F53-0230-41EC-BC68-37AD9FFEF869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67EE-5D0F-4FED-AA56-B8616D202590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4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The Amazon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47280" y="3645000"/>
            <a:ext cx="6147000" cy="20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What do we need to know to understand why the Amazon is important?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A08FE-25CC-41D3-8AC2-7F5CFBFCFB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ere does the rain forest come into this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2447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only way carbon dioxide can be taken out of the atmosphere is by the plants – and trees are better at it than most because they are bigger and need to make more sugar to grow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355640" y="4437000"/>
            <a:ext cx="45370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ithout our forests, less of the carbon dioxide would taken out of the air, so more of it would be left to trap more heat from the sun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716360" y="1125360"/>
            <a:ext cx="4248360" cy="3095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2D41-C355-4438-AE59-7898BFE280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064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If there are more greenhouse gases in the air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900000" y="3429000"/>
            <a:ext cx="763272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What kind of things can we expect to happen?</a:t>
            </a:r>
            <a:endParaRPr b="1" lang="en-US" sz="3600" spc="-1" strike="noStrike">
              <a:solidFill>
                <a:srgbClr val="006699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2af2"/>
                </a:solidFill>
                <a:latin typeface="Comic Sans MS"/>
              </a:rPr>
              <a:t>(it is not just a mater of everywhere getting hotter)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CA827-E6A2-4FE9-B791-9A7D871EBC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I think we may have covered most of these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2340000" y="3068640"/>
            <a:ext cx="3672000" cy="720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ome places will b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2920" y="4257000"/>
            <a:ext cx="2232000" cy="708120"/>
          </a:xfrm>
          <a:prstGeom prst="cloudCallout">
            <a:avLst>
              <a:gd name="adj1" fmla="val 36481"/>
              <a:gd name="adj2" fmla="val -106296"/>
            </a:avLst>
          </a:prstGeom>
          <a:solidFill>
            <a:srgbClr val="cc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ett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1966320"/>
            <a:ext cx="2232000" cy="708120"/>
          </a:xfrm>
          <a:prstGeom prst="cloudCallout">
            <a:avLst>
              <a:gd name="adj1" fmla="val -72462"/>
              <a:gd name="adj2" fmla="val 102032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ld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558680"/>
            <a:ext cx="2232000" cy="708120"/>
          </a:xfrm>
          <a:prstGeom prst="cloudCallout">
            <a:avLst>
              <a:gd name="adj1" fmla="val 4680"/>
              <a:gd name="adj2" fmla="val -161990"/>
            </a:avLst>
          </a:prstGeom>
          <a:solidFill>
            <a:srgbClr val="ffe497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i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12000" y="4990680"/>
            <a:ext cx="2232000" cy="708120"/>
          </a:xfrm>
          <a:prstGeom prst="cloudCallout">
            <a:avLst>
              <a:gd name="adj1" fmla="val -68976"/>
              <a:gd name="adj2" fmla="val -234907"/>
            </a:avLst>
          </a:prstGeom>
          <a:solidFill>
            <a:srgbClr val="ff9b9b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indi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2000" y="1677600"/>
            <a:ext cx="2232000" cy="708120"/>
          </a:xfrm>
          <a:prstGeom prst="cloudCallout">
            <a:avLst>
              <a:gd name="adj1" fmla="val 39740"/>
              <a:gd name="adj2" fmla="val 134092"/>
            </a:avLst>
          </a:prstGeom>
          <a:solidFill>
            <a:srgbClr val="ead5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ott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06A2-2C96-4A1A-9BB1-29FC15E6E4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But are the effect on the rain forest of the trees being cut down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67743-1459-49CB-B056-D0538C1531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soil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3640" y="4581360"/>
            <a:ext cx="424476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Before: moist, shaded, with lots of leaves to make compost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7960" y="4653000"/>
            <a:ext cx="42447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fter: dry and desiccated as the sun dries up the soil and makes it cracked – the compost blows away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1042920" y="981000"/>
            <a:ext cx="6647040" cy="3251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FF5B-2830-4918-8858-6B6962A7A3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temperatur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3640" y="4581360"/>
            <a:ext cx="424476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Before: the temperature is kept down in the day because of the shade, but the trees act as a blanket making it only a bit cooler at night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7960" y="4653000"/>
            <a:ext cx="42447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fter: Very hot in the day but cools quickly at night with no protective tree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042920" y="981000"/>
            <a:ext cx="6647040" cy="3251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FE8E-5549-422B-AA26-ECA95D840A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Vegetation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3640" y="4581360"/>
            <a:ext cx="424476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Before: Lots of thing grew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7960" y="4653000"/>
            <a:ext cx="42447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fter: With poor soil and the water evaporated, it would turn into a desert eventually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042920" y="981000"/>
            <a:ext cx="6647040" cy="3251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E5A2-2217-4FEE-9099-D9B4E86400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Greenhouses gase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4000" y="4149360"/>
            <a:ext cx="40320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efore: As much as 10% may be trappe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00360" y="4149720"/>
            <a:ext cx="4392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fter: None is taken in. But worse still even more can be released, by burning or rott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042920" y="981000"/>
            <a:ext cx="6647040" cy="3251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5651640" y="907920"/>
            <a:ext cx="2023920" cy="1673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6084720" y="2708280"/>
            <a:ext cx="2416320" cy="898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A3A9-1028-4D47-BEEE-FFA270E6A0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Flooding and drough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4149360"/>
            <a:ext cx="396072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Before: Heavy rain hits the tree-tops and drips down through the branches, runs down the trunks and soaks into the soft earth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355640" y="4221000"/>
            <a:ext cx="4537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fter: The heavy rain hits the baked earth hard, forming puddles and floods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earth has been baked by the sun so it floods and then runs off into the river, taking any loose soil with it – this is called soil erosion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1619280" y="836640"/>
            <a:ext cx="5810400" cy="3409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8C0D-F9DA-4340-B2AF-67B4DE75DF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8920" y="103320"/>
            <a:ext cx="87138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And then there is the human and environmental problem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merindians are loosing their homeland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 plants and animals are lost forever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Rainforests contain medicines - an estimated one in four of all purchases from pharmacies in countries such as Britain contain an active ingredient derived from a tropical forest species.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d only 1 % of the plants have yet been teste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5A557-403E-4457-95EB-92D5F1B5C5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re some really good question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Such a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f the trees in the rain forest were all cut down how would it effect the earth?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What would happen if the weather pattern in the Amazon changes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How would the world change if all of the Amazon was cut down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But to help us think about these, what do we need to think about first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There is a question that we would have to think about before we could go on to look as these others – any ideas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A243-3148-464C-AFB2-5A09AB996B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Homework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HotPotatoes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D24C-3874-47AA-8FFF-F04D72878D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I think we will have got there?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547280" y="3573000"/>
            <a:ext cx="6147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What is climate change and what has it to do with global warming?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10526-FB16-4C16-9571-317E0BCF10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Phrases we hear include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4000" y="1052640"/>
            <a:ext cx="84646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Greenhouse Effec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Global Warm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limate Chang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14360" y="3184200"/>
            <a:ext cx="847872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efore we look at these, there are 2 sources of the Greenhouse Effec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20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Natural Greenhouse Effect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20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Enhanced Greenhouse Effect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first being useful, the second, well who knows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7C8FB-99BC-4C4C-8E61-0B05F7F055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Natural Greenhouse Effect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thout it, Earth would have no living things and would be more like Venus or Mar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s is because the temperature would be on average 30</a:t>
            </a:r>
            <a:r>
              <a:rPr b="0" lang="en-US" sz="32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 colder than it i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s is how it works…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80CAB-33BD-44AA-AA42-AAD4D202C1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Natural Greenhouse Effect at work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5510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Earth is covered by a blanket of ga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energy from the Sun reaches the Earth’s surface, where some it is converted to heat energy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Most of the heat( blue arrows) is re-radiated towards space, but some is trapped by the greenhouse gases in the atmospher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s natural effect allows the Earth’s temperature to be kept at a level necessary to support life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227640" y="1268280"/>
            <a:ext cx="2714760" cy="500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80A7-E194-4228-BAE1-3B2F9B042C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Natural Greenhouse Effect at work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394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main Greenhouse Gas is Carbon Dioxide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Until the last 200 years, the amount of CO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has remained stable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is why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427640" y="1197000"/>
            <a:ext cx="4228920" cy="4676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00000" y="4797360"/>
            <a:ext cx="3241800" cy="1295640"/>
          </a:xfrm>
          <a:prstGeom prst="wedgeRoundRectCallout">
            <a:avLst>
              <a:gd name="adj1" fmla="val -45689"/>
              <a:gd name="adj2" fmla="val 69976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an you explain what is happening here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CC6A-716E-4AD2-A0B6-9B8F797B40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But then there is the Enhanced Greenhouse Effect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42433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how this is different!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Much more of the heat from the sun gets trapped in the atmospher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o the Earth gets hotte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5251320" y="1376280"/>
            <a:ext cx="303876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EAF92-6D15-466F-BD2C-F6C0652C9D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y is more heat getting trapped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4313160"/>
            <a:ext cx="84042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e are taking the stored carbon from the ground (oil and coal and gas) and burning i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releases the CO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and so the main greenhouse gas is increas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195640" y="981000"/>
            <a:ext cx="4248000" cy="31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5232-D2BA-4A8D-995D-9AA030A061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4:32:48Z</dcterms:created>
  <dc:creator>Lindy</dc:creator>
  <dc:description/>
  <dc:language>en-US</dc:language>
  <cp:lastModifiedBy>Lindy</cp:lastModifiedBy>
  <dcterms:modified xsi:type="dcterms:W3CDTF">2009-05-04T13:53:54Z</dcterms:modified>
  <cp:revision>7</cp:revision>
  <dc:subject/>
  <dc:title>The Amaz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